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23E2-89A0-4054-8287-791EF3FC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4275-29D8-4E23-B7E9-D1B140B3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A7DE-DA68-4A3D-B318-A1495AAE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17B3-2E5F-4BE5-872D-B776945E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327A-927A-47E9-B0C9-CEBEA5D0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37D0-9B1C-4574-9336-DD137E4A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C821-7AB2-4C07-8E9B-C21879EA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9AE1-790C-45D1-88CB-FF658028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FF93-AE32-4319-89B8-5B413F02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AD95-5D7F-4C80-B55B-7AD48F30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4D62-944B-480F-94C4-FBBAB04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9806-E08D-4B19-86A9-4EF5CE4E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1FE7-CD56-46D4-BB5C-621E7368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D5B3-B7FF-411D-A42E-8A1B918C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72B7-93DB-4565-99B2-D44E0C2F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40FC-F984-494B-B1D8-0A1BC343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8182-D05C-44E7-8201-AD71F3DF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5FA1-26A0-41C4-9111-A2BB18E7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EC4B-6934-422F-8391-F9C917E1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154F-E5C4-4569-8286-665B08A3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492D-EA1C-4094-8497-3AA9608B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6954-FDA3-4B59-AF29-6D549E7D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0B8E-B883-45A7-8FF3-57FE6277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89C5-B47E-4C8A-97B0-4D709D10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6130-6332-486F-B2EB-89E4513F64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1814-D5D3-4BE6-B069-2C0827BD1D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l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challenge you with random cip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Games men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structions on the scre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game help 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explain the details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ing against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464796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8892-430F-4702-AD73-6296878A97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run standardized randomness tests against binary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828800" y="2895480"/>
            <a:ext cx="68580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9242-583F-4E7F-BE2C-5BFD71A074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provides a tool for long integer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733920" y="2666880"/>
            <a:ext cx="377964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537D-3907-4C7D-BB23-57428A569F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can monitor your code breaking activities and provide a record of your use of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help you avoid redo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35467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D061-A9A6-4DC8-93B2-FEAC9AA73A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Bar offers tools than may prove useful in breaking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136368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D7AF-431D-45D2-AA0E-7C79A2B72C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is a general purpose tool for the study of classical (and some contemporary) ciph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is really three related programs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will encrypt and decrypt text using your choice of several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tools for breaking unknown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which will generate random ciphers and challenge you to break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" y="5867280"/>
            <a:ext cx="74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his presentation will introduce you to the general features of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9049-5000-4773-9F63-F2F5170E9C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items below to jump to help on the specific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just continue to advance through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276720"/>
            <a:ext cx="2333880" cy="542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3886200"/>
            <a:ext cx="2343240" cy="51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4457880"/>
            <a:ext cx="2390760" cy="49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7086600" y="44197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3657600" y="5638680"/>
            <a:ext cx="2362320" cy="4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09480" y="6172200"/>
            <a:ext cx="231480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237168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657600" y="4419720"/>
            <a:ext cx="234324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657600" y="3886200"/>
            <a:ext cx="231444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581280" y="5029200"/>
            <a:ext cx="2571840" cy="54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609480" y="5029200"/>
            <a:ext cx="2333880" cy="514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533520" y="5562720"/>
            <a:ext cx="257148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6803-4932-4955-A5E4-307BFDAA60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first open CAP this is the main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5257800" cy="45957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7086600" y="2286000"/>
            <a:ext cx="1219320" cy="762120"/>
            <a:chOff x="7086600" y="2286000"/>
            <a:chExt cx="1219320" cy="762120"/>
          </a:xfrm>
        </p:grpSpPr>
        <p:sp>
          <p:nvSpPr>
            <p:cNvPr id="134" name=""/>
            <p:cNvSpPr/>
            <p:nvPr/>
          </p:nvSpPr>
          <p:spPr>
            <a:xfrm>
              <a:off x="7086600" y="22860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4360" y="2286000"/>
              <a:ext cx="113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12440" y="3886200"/>
            <a:ext cx="1310040" cy="762120"/>
            <a:chOff x="7012440" y="3886200"/>
            <a:chExt cx="1310040" cy="762120"/>
          </a:xfrm>
        </p:grpSpPr>
        <p:sp>
          <p:nvSpPr>
            <p:cNvPr id="137" name=""/>
            <p:cNvSpPr/>
            <p:nvPr/>
          </p:nvSpPr>
          <p:spPr>
            <a:xfrm>
              <a:off x="7022880" y="38862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2440" y="38862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D121-7884-493C-9588-86070D3E3B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men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41468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191120" y="1981080"/>
            <a:ext cx="990360" cy="533520"/>
            <a:chOff x="4191120" y="1981080"/>
            <a:chExt cx="990360" cy="533520"/>
          </a:xfrm>
        </p:grpSpPr>
        <p:sp>
          <p:nvSpPr>
            <p:cNvPr id="146" name=""/>
            <p:cNvSpPr/>
            <p:nvPr/>
          </p:nvSpPr>
          <p:spPr>
            <a:xfrm>
              <a:off x="4191120" y="1981080"/>
              <a:ext cx="990360" cy="533520"/>
            </a:xfrm>
            <a:prstGeom prst="wedgeRoundRectCallout">
              <a:avLst>
                <a:gd name="adj1" fmla="val -43268"/>
                <a:gd name="adj2" fmla="val 78569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2560" y="1981080"/>
              <a:ext cx="94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ver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ASC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5520" y="2819520"/>
            <a:ext cx="4340160" cy="3200400"/>
            <a:chOff x="155520" y="2819520"/>
            <a:chExt cx="4340160" cy="3200400"/>
          </a:xfrm>
        </p:grpSpPr>
        <p:sp>
          <p:nvSpPr>
            <p:cNvPr id="149" name=""/>
            <p:cNvSpPr/>
            <p:nvPr/>
          </p:nvSpPr>
          <p:spPr>
            <a:xfrm>
              <a:off x="3962520" y="2819520"/>
              <a:ext cx="53316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2133720" y="3200400"/>
              <a:ext cx="1577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55520" y="3505320"/>
              <a:ext cx="196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rting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s is usefu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variety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83E9-4C26-46DE-80FE-F5D24E33A3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B6B5-CAE8-414A-B32E-65FA10A584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is the process of separating the ciphertext into segments of fixed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it easier to read without giving away standard word sp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2390760" cy="3324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34320" y="434016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lock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7840" y="2971800"/>
            <a:ext cx="3588480" cy="1521000"/>
            <a:chOff x="987840" y="2971800"/>
            <a:chExt cx="3588480" cy="1521000"/>
          </a:xfrm>
        </p:grpSpPr>
        <p:sp>
          <p:nvSpPr>
            <p:cNvPr id="162" name=""/>
            <p:cNvSpPr/>
            <p:nvPr/>
          </p:nvSpPr>
          <p:spPr>
            <a:xfrm>
              <a:off x="1197000" y="3407040"/>
              <a:ext cx="31428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7840" y="297180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out spa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7440" y="350532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klttekwpov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tnbzyqacee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77840" y="4654440"/>
            <a:ext cx="3429000" cy="1521000"/>
            <a:chOff x="1077840" y="4654440"/>
            <a:chExt cx="3429000" cy="1521000"/>
          </a:xfrm>
        </p:grpSpPr>
        <p:sp>
          <p:nvSpPr>
            <p:cNvPr id="166" name=""/>
            <p:cNvSpPr/>
            <p:nvPr/>
          </p:nvSpPr>
          <p:spPr>
            <a:xfrm>
              <a:off x="1077840" y="5089680"/>
              <a:ext cx="34290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97640" y="465444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 b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4040" y="5187960"/>
              <a:ext cx="311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 kltte kwpov 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 tnbzy qacee 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7981-5D6D-4DB2-99A2-A3B32F0C28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s Menu lists all the possible algorithms which CAP is capable of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are being added all th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mplement a cipher, click 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name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2827440" cy="4648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2240" y="4267080"/>
            <a:ext cx="40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Help on each cip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from the main help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rom the help feature of ea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04DC-081C-45A6-A1C9-8483E3D063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solv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lve is not active at this tim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7CA6-3D65-4203-AD6B-AFA9FA1527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2T00:45:37Z</dcterms:modified>
  <cp:revision>23</cp:revision>
  <dc:subject/>
  <dc:title>CAP Cryptographic Analysis Program</dc:title>
</cp:coreProperties>
</file>